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390-6E7A-4145-A1F6-28EDF7FE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228-1BF9-44EB-AF1E-FC290D74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77DC3-0F23-4CEA-A809-CBAD7B11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CC092-4E3C-4475-ACA9-5CFF2EDE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099B2-5782-4A97-BA02-F3925166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44858-9E77-4C10-A6B0-DB351DE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6FA75-6F22-4395-BC82-A776B511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3D28D-106C-425B-BD42-438BE2EC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CB086-07D2-4EA1-B118-340794DC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5A086-8E1B-45BD-A25A-C211C9EF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17DF4-AB77-4B8C-B9AA-A5DC3504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28173-99EE-4CA7-B490-FA047100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D28-5392-4F56-AD88-3613F114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45F29-F396-437E-98E3-D84C220A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3DB13-5F87-4D40-83A4-7675FDEF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87E62-70FD-4961-8171-A67088A8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92F8F-ABC6-42ED-8DDF-CEA03DA5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64011-D2B5-4B87-AC9B-3FE9F4B7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00CE5-BA1F-4172-8B5A-F6465C2C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27C33-7289-4898-96C5-C348432D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CC8FD-F5C9-4E4C-8D05-5A38A2D5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ADB25-3D51-41E6-8A3E-D145BA24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F48B6-6703-4365-ACF3-431EC46E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DC5-4783-4730-99F4-41C7CB8B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01C51-6F95-4DF0-8AC3-0AE7221E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09C60-5C52-4FED-B0BC-81312738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F6177-930F-43AC-9BF6-721C073C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F5058-3AB5-40AF-8A5D-E91BDFBE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31365-A1B2-4D71-A10B-84FA5B04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37004-6673-40EF-8F2D-FC779942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61CD4-AABF-431B-8F5D-220ECFA4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1151E-6097-4D9E-9BB2-DCE2883B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3C224-EAC6-4EC9-8C21-02EB5A56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83B17-6310-4AE2-A461-E1F01516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635D-9AF3-48D6-9EC4-860E2F83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44ED0-AAB8-4771-B85B-D5900759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78EE9-0CF5-4DAB-9D31-B0F9B38B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35185-AD2D-4AEC-8DA6-B9A8AD24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F0F8-940D-46D3-BA65-F1A15344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DCB3-8A36-4ADD-8989-6C7F3647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CCC-6154-4089-A360-5658C974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19AD-908B-43EA-992B-914F057A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EAEC-5AC0-41B6-AB73-F5D03A58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8A3B-79A6-4F2A-B7C5-84C586FE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AC1-05FD-453D-AE25-7D62BF28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4ACC-02A2-4021-B1DE-C88AC315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EDD8-1FB8-401D-BAC5-F7FF7186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9EEC-C152-4F35-85D2-A97BED35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292F-91DB-466A-AF9B-70F67607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B585-A376-4603-9E66-976006E7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639C-2958-4F67-AEE4-4FFAF778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DDBB-4272-4472-8A49-D7AED2C6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BC32-8529-497F-AA00-8773CF70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BDF9-E06A-4291-9F59-F0439F9F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B9C5-0259-40E1-A6C8-2D3142A7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72C-9FA3-469F-8BFD-170576CA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DF685-1B95-4E95-B109-B14C521A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158C-8FC0-440A-A0C8-850D3436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2CAE-0BBA-4FEB-9492-486FE01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8847-C1F5-4455-8CD6-114A6E6A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097D-628C-43B8-86F0-B17A031E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67BA-5571-4441-982E-70854E87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60C0-384F-41A7-8751-08859627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337D3-B7BD-4673-9301-50EFC7AB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947B-32EA-49A7-A5F3-29FCBA6C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8AB9C-6026-4165-89FF-6B635AF3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F79-C479-46AF-909D-158C4BD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4946-425F-4322-98C7-679143F6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5EF3C-CA3A-4CC1-B323-398B6A0E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A835-CC66-4210-A9A5-1C3A8E21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6613-4F2E-452A-86B6-F98447E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9462-8434-4472-9FD0-E7A7178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A2A6-1CE8-4D94-9913-90AD6B62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DC33-1F5A-43AB-BFF0-D1B9049D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CC782-C85C-4673-BEF0-3CD2D6FF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E3DC-0CC1-4023-9325-08BE3EE9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05253-14F8-4978-9A62-384F7ECE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F0E-237E-4B58-A8D0-809B25BC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13583-7B2B-4BCB-881B-12AA204D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A2402-7F7C-45AE-9F6A-E38C4DC0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D9943-279D-46C4-9D0C-9B4513ED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0E8E1-4A6D-4BCC-A20B-09BA4E9E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8A607-D3AC-4DC6-A1CB-AAB53A5B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7D368-A597-47CD-84DE-7F98EDE8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AB2C5-BC90-421D-90CF-264EAF44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877D-8901-48B1-95F8-2BE68100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7AC32-EB3F-4935-8960-2158524B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7AF1-2ED7-4AB6-8897-BA871579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88C-5D6C-41E3-B1D3-6D57D03A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0BD42-CBEB-40D0-BA40-1ADBF61C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455C5-8EA5-48E0-B38C-B97E7AB8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93E40-2193-4A20-9F60-452222B9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A8CCA-E49B-487D-A718-DBCBCED6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07B5-35A4-45FE-8065-CDE4F3E2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0F80B-FECD-4BD7-89C8-52D79CAE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668B8-E549-4B3F-A972-CC1F655F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EB43-2BF8-48BD-A27A-C911B17F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3757-A83E-401F-9806-DA29BF80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83646-E564-4340-B1D7-38644AA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F98-13B4-4E3F-8BEC-6DA93CC4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E0DB4-5B2D-4600-BD39-F1129309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41AE1-DD49-4C40-87DE-DD7184A4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7C0A2-01D7-4470-A1C9-39C027FD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B424-E1B9-4B75-85E1-CE765DA0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99928-8F3A-42A2-8A3D-D2B94C35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78F49-360F-4462-ACAA-48D73FAC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E28C2-9E78-4904-B608-5897982E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111C5-9503-48DA-BE61-C85CE900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B1798-B9A9-46BA-9FA8-410DFE90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F5E4-0A15-48F6-9B6A-E783E760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F7E-3DDF-4474-84BC-30D9D6B6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4F5C-B6DB-42F1-833A-2344F68A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C02D3-87A3-4D6C-9800-2A841ECB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6B45D-BFE7-42B7-9C1D-5BC00468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4964-102A-49EF-B450-3626C173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B8503-E8A5-4C8D-91A0-92053A49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0A237-610D-473D-B292-0577FF2A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8D63A-8093-443B-A98F-2E908483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AE778-E1C4-4ECF-8B6F-1E4F4C20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33DF8-77DA-4186-A00C-CA6A6DC1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630CE-7C9B-4100-9E91-F54AF55B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787-6E34-4A79-9B8F-D021A75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4028D-03FF-4DEB-ABB4-5FC36C1A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009DC-0AD0-4049-AF33-92D55BBD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76A41-33BD-4A66-8151-8293FEE4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0F19E-73FA-421A-8AD0-FC82F80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9140C-F5A3-47D8-A8C4-97D2CD21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D00B-AE6B-467B-9151-5CD3F9D2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32F89-A1E1-4D23-ABBC-D0A3D119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BC545-8A98-4160-B1FA-DC8A55FC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12A93-7E36-481F-A587-32E83DD9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23C92-BBD7-42F2-9CB2-8346B5DE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308A69E2-8CF0-4489-A403-A9627268C5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E3AF138C-586E-4986-BB2F-8DD4BD2CABA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28A0A6A3-3EDF-416E-8E6F-F38C20BCAE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A1ECC21A-8E4C-48B4-B629-169999508F0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A4EDD76C-4F1A-4919-BBC7-DAC1D2C994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7352C0F9-6261-4026-8530-E67E062BBA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0EA3F36D-2E2E-4B81-AD0E-6F0FD4ADC9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13F14CCA-2DB7-4144-9F4D-0F0D6121F0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34FC2AAA-1C44-41E0-83DB-D3D270AC1B8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EC03C960-A758-4D5E-B679-9196CF0C75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8DADBDC2-B21E-43BD-B588-1233389180C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hape 12288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9623B8FB-6EC5-4CC8-B8FD-1C6176DDE5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Rectangle 1228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229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12291"/>
          <p:cNvSpPr/>
          <p:nvPr/>
        </p:nvSpPr>
        <p:spPr>
          <a:xfrm>
            <a:off x="254160" y="1828800"/>
            <a:ext cx="7975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Futura Hv BT"/>
              </a:rPr>
              <a:t>ActionScript 3.0 e 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Introduzione ai Flex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Rectangle 12293" descr=""/>
          <p:cNvPicPr/>
          <p:nvPr/>
        </p:nvPicPr>
        <p:blipFill>
          <a:blip r:embed="rId2"/>
          <a:stretch/>
        </p:blipFill>
        <p:spPr>
          <a:xfrm>
            <a:off x="5580000" y="6256440"/>
            <a:ext cx="1728720" cy="446040"/>
          </a:xfrm>
          <a:prstGeom prst="rect">
            <a:avLst/>
          </a:prstGeom>
          <a:ln w="0">
            <a:noFill/>
          </a:ln>
        </p:spPr>
      </p:pic>
      <p:pic>
        <p:nvPicPr>
          <p:cNvPr id="511" name="Rectangle 12294" descr=""/>
          <p:cNvPicPr/>
          <p:nvPr/>
        </p:nvPicPr>
        <p:blipFill>
          <a:blip r:embed="rId3"/>
          <a:stretch/>
        </p:blipFill>
        <p:spPr>
          <a:xfrm>
            <a:off x="7596360" y="6237360"/>
            <a:ext cx="12952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72E49109-18F7-477E-B73D-76E512740B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3313"/>
          <p:cNvSpPr/>
          <p:nvPr/>
        </p:nvSpPr>
        <p:spPr>
          <a:xfrm>
            <a:off x="68580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form in Flex si definisce attraverso il tag &lt;mx: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vantaggio che deriva dall’utilizzo di questo tag è che appartenendo alla famiglia dei container si può gestire facilmente il suo posizionamento e ridimensionamento all’interno dell’interfaccia dell’applica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form container contiene al suo interno un header e vari i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lex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B55DEA2A-3E1B-403D-A1B9-7488D840E6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3313"/>
          <p:cNvSpPr/>
          <p:nvPr/>
        </p:nvSpPr>
        <p:spPr>
          <a:xfrm>
            <a:off x="685800" y="2133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tag &lt;mx:FormHeading&gt; serve per definire l’intestazione del f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vantaggio che deriva dal suo utilizzo è l’allineamento del testo in esso contenuto con i controlli inseriti nel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lex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FF5710F4-1470-47F4-9EB1-FBBC0EC53B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13313"/>
          <p:cNvSpPr/>
          <p:nvPr/>
        </p:nvSpPr>
        <p:spPr>
          <a:xfrm>
            <a:off x="685800" y="21337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tag &lt;mx:FormItem&gt; serve definire gli elementi del form attraverso le sue prorpiet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ection="vertical|horizontal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el="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d="false|tru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lex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5AB71C2E-1693-45D4-9C37-6437B2DA9A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13313"/>
          <p:cNvSpPr/>
          <p:nvPr/>
        </p:nvSpPr>
        <p:spPr>
          <a:xfrm>
            <a:off x="685800" y="2133720"/>
            <a:ext cx="754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 validators disponibili in Flex sono diversi ed ognuno ha proprietà differ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reditCard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urrency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e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mail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umber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honeNumber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egExp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cialSecurity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ing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ZipCodeValid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lex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hape 12288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BFA2263A-95D7-4B05-86A2-E6A3D0A603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ctangle 1228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1229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2291"/>
          <p:cNvSpPr/>
          <p:nvPr/>
        </p:nvSpPr>
        <p:spPr>
          <a:xfrm>
            <a:off x="254160" y="1828800"/>
            <a:ext cx="7975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Futura Hv BT"/>
              </a:rPr>
              <a:t>ActionScript 3.0 e 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Rectangle 12293" descr=""/>
          <p:cNvPicPr/>
          <p:nvPr/>
        </p:nvPicPr>
        <p:blipFill>
          <a:blip r:embed="rId2"/>
          <a:stretch/>
        </p:blipFill>
        <p:spPr>
          <a:xfrm>
            <a:off x="5580000" y="6256440"/>
            <a:ext cx="1728720" cy="446040"/>
          </a:xfrm>
          <a:prstGeom prst="rect">
            <a:avLst/>
          </a:prstGeom>
          <a:ln w="0">
            <a:noFill/>
          </a:ln>
        </p:spPr>
      </p:pic>
      <p:pic>
        <p:nvPicPr>
          <p:cNvPr id="529" name="Rectangle 12294" descr=""/>
          <p:cNvPicPr/>
          <p:nvPr/>
        </p:nvPicPr>
        <p:blipFill>
          <a:blip r:embed="rId3"/>
          <a:stretch/>
        </p:blipFill>
        <p:spPr>
          <a:xfrm>
            <a:off x="7596360" y="6237360"/>
            <a:ext cx="12952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55C1CB19-0F2F-45C8-A511-2047928D714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3313"/>
          <p:cNvSpPr/>
          <p:nvPr/>
        </p:nvSpPr>
        <p:spPr>
          <a:xfrm>
            <a:off x="685800" y="21337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e espressioni regolari sono un potente strumento attraverso il quale è possibile “esplorare” una stringa o verificare se al suo interno esistono delle corrispondenze con determinati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sintassi delle espressioni regolari non è delle più semplici ed immediate, ma fortunatamente esistono varie risorse sul web dalle quali atting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ttp://regexlib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egular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DBD044EE-9E13-454E-94E6-5F5A11F6EC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3313"/>
          <p:cNvSpPr/>
          <p:nvPr/>
        </p:nvSpPr>
        <p:spPr>
          <a:xfrm>
            <a:off x="685800" y="2133720"/>
            <a:ext cx="754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classe RegExp permette di lavorare in ActionScript 3.0 con i pattern più comuni delle espressioni rego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ar pattern1:RegExp = new RegExp("test-\\d", "i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ar pattern2:RegExp = /test-\d/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sintassi è abbastanza flessibi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egular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13B0A4D9-72C3-4FE3-81B5-BD28EC33E0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13313"/>
          <p:cNvSpPr/>
          <p:nvPr/>
        </p:nvSpPr>
        <p:spPr>
          <a:xfrm>
            <a:off x="685800" y="213372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dirizzo 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((\d{1,2})|(1\d{2})|(2[0-4]\d)|(25[0-5]))\.){3}((\d{1,2})|(1\d{2})|(2[0-4]\d)|(25[0-5]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dirizzo 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\w+\.)*\w+@(\w+\.)+[A-Za-z]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umero carta di credi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5[1-5]\d{14})|(4\d{12}(\d{3})?)|(3[47]\d{13})|(6011\d{14})|((30[0-5]|36\d|38\d)\d{11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egular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7:21:07Z</dcterms:created>
  <dc:creator>Andrea Trento</dc:creator>
  <dc:description/>
  <dc:language>en-US</dc:language>
  <cp:lastModifiedBy>Valued Acer Customer</cp:lastModifiedBy>
  <dcterms:modified xsi:type="dcterms:W3CDTF">2007-03-15T18:31:12Z</dcterms:modified>
  <cp:revision>272</cp:revision>
  <dc:subject/>
  <dc:title>Presentazione di PowerPoint</dc:title>
</cp:coreProperties>
</file>