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9F3E0-1411-4C81-84AE-D7D1280D1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8E18B-0CE2-499A-9BE6-AE84CE8A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22490-26BA-4782-96CE-BD1CBC9DA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79AEC-44F4-46D7-8CFD-FC5BDF85C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ABB7E-50AB-4BE3-8B98-1A27C4397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C45C5-E3D5-432B-B74E-BF52C3C97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B62E7-32BB-44A3-B3DE-7326D9C4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EBA2-AAB9-47DD-A00E-692351702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CCE89-AF72-47F6-ABB5-5E66199BA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FB0B-CC5B-4572-BCB5-F8F22A397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3B44-2021-49B2-ADB5-A56B6AE0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5CFE-4582-44B5-A544-995338386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211680" y="643104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Futura Lt BT"/>
              </a:rPr>
              <a:t>Roma, 13 maggio 2005</a:t>
            </a:r>
            <a:endParaRPr b="0" lang="en-US" sz="1200" spc="-1" strike="noStrike">
              <a:solidFill>
                <a:srgbClr val="000000"/>
              </a:solidFill>
              <a:latin typeface="Times New Roman"/>
            </a:endParaRPr>
          </a:p>
        </p:txBody>
      </p:sp>
      <p:pic>
        <p:nvPicPr>
          <p:cNvPr id="5" name="bk" descr=""/>
          <p:cNvPicPr/>
          <p:nvPr/>
        </p:nvPicPr>
        <p:blipFill>
          <a:blip r:embed="rId2"/>
          <a:stretch/>
        </p:blipFill>
        <p:spPr>
          <a:xfrm>
            <a:off x="0" y="0"/>
            <a:ext cx="9144000" cy="6867360"/>
          </a:xfrm>
          <a:prstGeom prst="rect">
            <a:avLst/>
          </a:prstGeom>
          <a:ln w="0">
            <a:noFill/>
          </a:ln>
        </p:spPr>
      </p:pic>
      <p:sp>
        <p:nvSpPr>
          <p:cNvPr id="6" name=""/>
          <p:cNvSpPr/>
          <p:nvPr/>
        </p:nvSpPr>
        <p:spPr>
          <a:xfrm>
            <a:off x="0" y="0"/>
            <a:ext cx="9144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15640" y="6431040"/>
            <a:ext cx="183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Futura Lt BT"/>
              </a:rPr>
              <a:t>Roma, 16 giugno 2005</a:t>
            </a:r>
            <a:endParaRPr b="0" lang="en-US" sz="1200" spc="-1" strike="noStrike">
              <a:solidFill>
                <a:srgbClr val="000000"/>
              </a:solidFill>
              <a:latin typeface="Times New Roman"/>
            </a:endParaRPr>
          </a:p>
        </p:txBody>
      </p:sp>
      <p:sp>
        <p:nvSpPr>
          <p:cNvPr id="8" name=""/>
          <p:cNvSpPr/>
          <p:nvPr/>
        </p:nvSpPr>
        <p:spPr>
          <a:xfrm>
            <a:off x="425520" y="577800"/>
            <a:ext cx="8381880" cy="5562720"/>
          </a:xfrm>
          <a:prstGeom prst="roundRect">
            <a:avLst>
              <a:gd name="adj" fmla="val 259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80880" y="533520"/>
            <a:ext cx="8382240" cy="5562360"/>
          </a:xfrm>
          <a:prstGeom prst="roundRect">
            <a:avLst>
              <a:gd name="adj" fmla="val 259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lide </a:t>
            </a:r>
            <a:fld id="{BB9ADDEC-A40A-4903-A429-79F09A8F88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bk" descr=""/>
          <p:cNvPicPr/>
          <p:nvPr/>
        </p:nvPicPr>
        <p:blipFill>
          <a:blip r:embed="rId1"/>
          <a:stretch/>
        </p:blipFill>
        <p:spPr>
          <a:xfrm>
            <a:off x="0" y="0"/>
            <a:ext cx="9144000" cy="6867360"/>
          </a:xfrm>
          <a:prstGeom prst="rect">
            <a:avLst/>
          </a:prstGeom>
          <a:ln w="0">
            <a:noFill/>
          </a:ln>
        </p:spPr>
      </p:pic>
      <p:sp>
        <p:nvSpPr>
          <p:cNvPr id="48" name=""/>
          <p:cNvSpPr/>
          <p:nvPr/>
        </p:nvSpPr>
        <p:spPr>
          <a:xfrm>
            <a:off x="0" y="0"/>
            <a:ext cx="9144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4160" y="1828800"/>
            <a:ext cx="797544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Futura Hv BT"/>
              </a:rPr>
              <a:t>Flash Mobi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utura Md BT"/>
              </a:rPr>
              <a:t>Applicazioni cross platform grazie a Flash L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Futura Lt BT"/>
              </a:rPr>
              <a:t>Introduzione all’integrazione di media esterni</a:t>
            </a:r>
            <a:endParaRPr b="0" lang="en-US" sz="3200" spc="-1" strike="noStrike">
              <a:solidFill>
                <a:srgbClr val="000000"/>
              </a:solidFill>
              <a:latin typeface="Times New Roman"/>
            </a:endParaRPr>
          </a:p>
        </p:txBody>
      </p:sp>
      <p:sp>
        <p:nvSpPr>
          <p:cNvPr id="50" name=""/>
          <p:cNvSpPr/>
          <p:nvPr/>
        </p:nvSpPr>
        <p:spPr>
          <a:xfrm>
            <a:off x="215640" y="6431040"/>
            <a:ext cx="183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Futura Lt BT"/>
              </a:rPr>
              <a:t>Roma, 16 giugno 2005</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19622BB-FDB4-4AE6-9641-36D194E95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Caricare SWF</a:t>
            </a:r>
            <a:endParaRPr b="0" lang="en-US" sz="1600" spc="-1" strike="noStrike">
              <a:solidFill>
                <a:srgbClr val="000000"/>
              </a:solidFill>
              <a:latin typeface="Times New Roman"/>
            </a:endParaRPr>
          </a:p>
        </p:txBody>
      </p:sp>
      <p:sp>
        <p:nvSpPr>
          <p:cNvPr id="68"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viluppare applicazioni per dispositivi mobili è un’attività, per certi punti di vista, molto più delicata e complessa  dello sviluppo di software utilizzabile su desktop o via internet attraverso strumenti tradizionali come ad esempio pc, portatili, mac, ecc..</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7D2FB8A-3106-4B67-A529-9063CB518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Utilizzare file MIDI</a:t>
            </a:r>
            <a:endParaRPr b="0" lang="en-US" sz="1600" spc="-1" strike="noStrike">
              <a:solidFill>
                <a:srgbClr val="000000"/>
              </a:solidFill>
              <a:latin typeface="Times New Roman"/>
            </a:endParaRPr>
          </a:p>
        </p:txBody>
      </p:sp>
      <p:sp>
        <p:nvSpPr>
          <p:cNvPr id="70" name=""/>
          <p:cNvSpPr/>
          <p:nvPr/>
        </p:nvSpPr>
        <p:spPr>
          <a:xfrm>
            <a:off x="685800" y="2133720"/>
            <a:ext cx="7543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Per utilizzare un suono nelle vostre applicazioni è necessario quindi utilizzare formati audio come il MIDI che non possono essere gestiti direttamente nell’ambiente di sviluppo di Fl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e volete associare ad un determinato evento nella vostra applicazione un file .mid dovete importare in Flash un qualsiasi file audio in uno dei formati supportati ed eseguire un collegamento al .mid che rimane esterno ma che verrà incluso in fase di compilazione nel file .swf attivando con il tasto destro del mouse le proprietà del file audio importato in Flash.</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1626B63-3CCA-4EAD-8990-1E8BB516D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Utilizzare file MIDI</a:t>
            </a:r>
            <a:endParaRPr b="0" lang="en-US" sz="1600" spc="-1" strike="noStrike">
              <a:solidFill>
                <a:srgbClr val="000000"/>
              </a:solidFill>
              <a:latin typeface="Times New Roman"/>
            </a:endParaRPr>
          </a:p>
        </p:txBody>
      </p:sp>
      <p:pic>
        <p:nvPicPr>
          <p:cNvPr id="72" name="linkage" descr=""/>
          <p:cNvPicPr/>
          <p:nvPr/>
        </p:nvPicPr>
        <p:blipFill>
          <a:blip r:embed="rId1"/>
          <a:stretch/>
        </p:blipFill>
        <p:spPr>
          <a:xfrm>
            <a:off x="3733920" y="1828800"/>
            <a:ext cx="4495680" cy="4065480"/>
          </a:xfrm>
          <a:prstGeom prst="rect">
            <a:avLst/>
          </a:prstGeom>
          <a:ln w="0">
            <a:noFill/>
          </a:ln>
        </p:spPr>
      </p:pic>
      <p:sp>
        <p:nvSpPr>
          <p:cNvPr id="73" name=""/>
          <p:cNvSpPr/>
          <p:nvPr/>
        </p:nvSpPr>
        <p:spPr>
          <a:xfrm>
            <a:off x="1351800" y="3276720"/>
            <a:ext cx="1741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ssociazion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idi esterno…</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4FF2FF2-D06A-482D-AF89-6DB28B2C47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Utilizzare file MIDI</a:t>
            </a:r>
            <a:endParaRPr b="0" lang="en-US" sz="1600" spc="-1" strike="noStrike">
              <a:solidFill>
                <a:srgbClr val="000000"/>
              </a:solidFill>
              <a:latin typeface="Times New Roman"/>
            </a:endParaRPr>
          </a:p>
        </p:txBody>
      </p:sp>
      <p:sp>
        <p:nvSpPr>
          <p:cNvPr id="75" name=""/>
          <p:cNvSpPr/>
          <p:nvPr/>
        </p:nvSpPr>
        <p:spPr>
          <a:xfrm>
            <a:off x="685800" y="2133720"/>
            <a:ext cx="7543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Tra le varie possibilità offerte da FlashLite spicca la capacità di rilevare se il dispositivo è in grado di riprodurre suoni in streaming attraverso i valori restituiti dalla variabile  _capStreamSound e se può gestire alcuni particolari formati aud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La variabile _capMFi vi indica sei il dispositivo è in grado di riprodurre suoni in formato MFi. I valori che può assumere sono 1 se il formato è supportato e undefined qualora il telefonino non sia in grado di gestire questo tipo di da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Le variabili _capMIDI e _capSMAF funzionano in maniera analoga e vi permettono di rilevare se è possibile gestire attraverso il dispositivo il formato audio MIDI e/0 SMAF.</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1C12799-8520-4948-B503-E1DE36C83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Audio</a:t>
            </a:r>
            <a:endParaRPr b="0" lang="en-US" sz="1600" spc="-1" strike="noStrike">
              <a:solidFill>
                <a:srgbClr val="000000"/>
              </a:solidFill>
              <a:latin typeface="Times New Roman"/>
            </a:endParaRPr>
          </a:p>
        </p:txBody>
      </p:sp>
      <p:sp>
        <p:nvSpPr>
          <p:cNvPr id="77" name=""/>
          <p:cNvSpPr/>
          <p:nvPr/>
        </p:nvSpPr>
        <p:spPr>
          <a:xfrm>
            <a:off x="685800" y="21337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Flash Lite 1.1 supporta suoni di tipo event e 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La differenza sostanziale tra i due risiede nella sincronizzazione con la linea temporale e nel fatto che i primi devono essere completamente scaricati prima di essere riprodot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I suoni stream sono ideali quando è necessario sincronizzare la riproduzione dell’audio ad un’animazione, un’intro, ecc.</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7BEE3BF-BF67-40EF-B412-FD4037229D6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2" name=""/>
          <p:cNvSpPr/>
          <p:nvPr/>
        </p:nvSpPr>
        <p:spPr>
          <a:xfrm>
            <a:off x="685800" y="213372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seconda delle caratteristiche del dispositivo su cui viene visualizzata la vostra applicazione e dei supporti offerti è possibile caricare dati esterni con i comandi loadVariables e loadVariablesNum o visualizzare altri swf con le azioni loadMovie e loadMovieNu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734452-A335-46F5-8D5C-7CF4D8D5F7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4"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viluppare applicazioni per dispositivi mobili è un’attività, per certi punti di vista, molto più delicata e complessa  dello sviluppo di software utilizzabile su desktop o via internet attraverso strumenti tradizionali come ad esempio pc, portatili, mac, ecc..</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3A9D8CD-7E6F-4F55-AC50-5827222295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6"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 dispositivi portatili sono tutti dotati di processori molto meno potenti rispetto a quelli che troviamo assemblati all’interno delle nostre macchine fisse e di batterie con capacità di accumulo inferiori a quelle dei nostri portatili.</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AB82353-B918-4D4E-83F0-13D0C0952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8" name=""/>
          <p:cNvSpPr/>
          <p:nvPr/>
        </p:nvSpPr>
        <p:spPr>
          <a:xfrm>
            <a:off x="685800" y="21337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urante la progettazione è doveroso tenere conto di questi aspetti perché un’applicazione che utilizza in modo troppo intensivo la cpu del dispositivo può portare al crash del sistema o, conseguenza meno di impatto ma altrettanto spiacevole, alla riduzione dell’autonomia del dispositivo, visto che, essendo alimentato a batteria, l’impiego delle risorse va di pari passo con il consumo dell’energia a disposizione per far funzionare tutto.</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A58A40C-890E-4BE1-89DA-DCE0116C8F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0"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n altro aspetto importante da considerare è che, se nel web abbiamo differenti browser che girano su differenti piattaforme a differenti risoluzioni, i dispositivi mobili hanno degli schermi di forma molto differente a seconda della ditta che li produc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6AE5A14-F90B-4C22-8D22-B97F0F950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2" name=""/>
          <p:cNvSpPr/>
          <p:nvPr/>
        </p:nvSpPr>
        <p:spPr>
          <a:xfrm>
            <a:off x="685800" y="21337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ando vogliamo utilizzare Flash per un’applicazione distribuita su dispositivi mobili dobbiamo progettarla in modo da essere il più leggera possibile senza impegnare troppo la cpu del disposi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er questo motivo dovete porre molta cura nell’ottimizzazione delle immagini che volete usare, è consigliabile evitare transizioni con effetti molto complessi ed è necessario utilizzare una buona compressione dei suoni.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D155C5-DA7E-4E4A-97D6-90D935E6E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4" name=""/>
          <p:cNvSpPr/>
          <p:nvPr/>
        </p:nvSpPr>
        <p:spPr>
          <a:xfrm>
            <a:off x="685800" y="21337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Quando scegliete di utilizzare nelle nostre applicazioni immagini bitmap dovete cercare di ottimizzarle al massimo avendo cura di ridimensionarle prima di importarle in Flash ed evitando immagini con sfumature ricche di dettagli che, oltre ad essere più pesanti da scaricare, impegnano in maniera abbastanza “pesante” il processor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0DD6E6-92A9-407E-93BC-99CB530CF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6" name=""/>
          <p:cNvSpPr/>
          <p:nvPr/>
        </p:nvSpPr>
        <p:spPr>
          <a:xfrm>
            <a:off x="685800" y="21337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cegliere di usare immagini vettoriali per le nostre interfacce è sicuramente la cosa migliore visto che sono formate solo da equazioni matematiche rappresentate a video, ma anche in questo caso dovete prestare la massima attenzione perché, visto che è una elaborazione di dati, processori piccoli come quelli dei palmari possono “soffrire” carichi di lavoro ingenti, inficiando l’autonomia del dispositivo e/o le loro performan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1DC6B72-1267-4161-850D-19640C00B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21:07Z</dcterms:created>
  <dc:creator>Andrea Trento</dc:creator>
  <dc:description/>
  <dc:language>en-US</dc:language>
  <cp:lastModifiedBy>utente</cp:lastModifiedBy>
  <dcterms:modified xsi:type="dcterms:W3CDTF">2005-06-15T23:44:18Z</dcterms:modified>
  <cp:revision>165</cp:revision>
  <dc:subject/>
  <dc:title>Presentazione di PowerPoint</dc:title>
</cp:coreProperties>
</file>