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DCFA-5D4F-4EDF-8720-637D830D1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8B83-4426-45BC-86B2-86369AA3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C4B6-1E66-473C-B540-BA9FC1366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35BD-65D3-4656-B1FA-E190C6D20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A488-74C1-4C05-BE79-3B47C7C2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AA92-77C1-4A43-80BB-914DDB4E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FAE0-A3A6-4ECC-9DA5-453FAF5F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8733-3E18-4162-8EF5-06DD49F4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4A0B-ADF8-4D4E-A84D-9389E21E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9951-103B-43B3-B527-0B130881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642B-1D97-45A7-BF29-77BF0335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185E-375A-48D2-9746-75065079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5E04-4F12-46C2-B939-EB79BCEC8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2.png"/><Relationship Id="rId1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765000"/>
            <a:ext cx="7993080" cy="532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1655640"/>
            <a:ext cx="1368360" cy="44373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8000" y="2065320"/>
            <a:ext cx="6624720" cy="4027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5560" y="174960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75760" y="2225520"/>
            <a:ext cx="161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IAL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09640" y="2174760"/>
            <a:ext cx="0" cy="344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95160" y="3824280"/>
            <a:ext cx="8067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1880" y="1655640"/>
            <a:ext cx="80640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6880" y="4467240"/>
            <a:ext cx="423720" cy="23184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"/>
          <p:cNvCxnSpPr>
            <a:stCxn id="49" idx="3"/>
            <a:endCxn id="51" idx="0"/>
          </p:cNvCxnSpPr>
          <p:nvPr/>
        </p:nvCxnSpPr>
        <p:spPr>
          <a:xfrm flipH="1" flipV="1">
            <a:off x="812880" y="3429000"/>
            <a:ext cx="208080" cy="1154520"/>
          </a:xfrm>
          <a:prstGeom prst="bentConnector4">
            <a:avLst>
              <a:gd name="adj1" fmla="val -114038"/>
              <a:gd name="adj2" fmla="val 1200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2" name="" descr="draw-text.png"/>
          <p:cNvPicPr/>
          <p:nvPr/>
        </p:nvPicPr>
        <p:blipFill>
          <a:blip r:embed="rId1"/>
          <a:stretch/>
        </p:blipFill>
        <p:spPr>
          <a:xfrm>
            <a:off x="326376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4804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67984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209700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2076480" y="906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2556000" y="906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501660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560088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618480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676908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1"/>
          <a:stretch/>
        </p:blipFill>
        <p:spPr>
          <a:xfrm>
            <a:off x="4432320" y="553896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95160" y="2637000"/>
            <a:ext cx="8067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60920" y="1655640"/>
            <a:ext cx="80640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3429000"/>
            <a:ext cx="114480" cy="1144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5160" y="5178600"/>
            <a:ext cx="8067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7720" y="1655640"/>
            <a:ext cx="80640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2"/>
          <a:stretch/>
        </p:blipFill>
        <p:spPr>
          <a:xfrm>
            <a:off x="2886120" y="27860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3"/>
          <a:stretch/>
        </p:blipFill>
        <p:spPr>
          <a:xfrm>
            <a:off x="2886120" y="323208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246480" y="3321000"/>
            <a:ext cx="5022720" cy="181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6480" y="2874960"/>
            <a:ext cx="5022720" cy="181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6480" y="3835440"/>
            <a:ext cx="5022720" cy="181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4"/>
          <a:stretch/>
        </p:blipFill>
        <p:spPr>
          <a:xfrm>
            <a:off x="735336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5"/>
          <a:stretch/>
        </p:blipFill>
        <p:spPr>
          <a:xfrm>
            <a:off x="793764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6"/>
          <a:stretch/>
        </p:blipFill>
        <p:spPr>
          <a:xfrm>
            <a:off x="2843280" y="374652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46480" y="2874960"/>
            <a:ext cx="5022720" cy="1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33960" y="3321000"/>
            <a:ext cx="1752480" cy="1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986440" y="3835440"/>
            <a:ext cx="1752480" cy="1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86120" y="4664160"/>
            <a:ext cx="541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68920" y="4383000"/>
            <a:ext cx="76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 (sec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468560" y="474984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 (fram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76960" y="2637000"/>
            <a:ext cx="0" cy="24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98000" y="281304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x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98360" y="325908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imul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97640" y="377352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17800" y="45925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5140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8464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1824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5148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8472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832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53360" y="45925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82880" y="5049720"/>
            <a:ext cx="541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1456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8148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8132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1480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4828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4848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11504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5012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152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1520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8176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1476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1496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4844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8156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4784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4804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4824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8172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5:40:40Z</dcterms:created>
  <dc:creator>Jon Peirce</dc:creator>
  <dc:description/>
  <dc:language>en-US</dc:language>
  <cp:lastModifiedBy>Jon Peirce</cp:lastModifiedBy>
  <dcterms:modified xsi:type="dcterms:W3CDTF">2008-09-28T16:27:18Z</dcterms:modified>
  <cp:revision>4</cp:revision>
  <dc:subject/>
  <dc:title>Slide 1</dc:title>
</cp:coreProperties>
</file>