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094C3-A4E8-4EB7-9BE5-62ED57C2D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0F5ED-9A14-4043-8E53-993237FFA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C2C1F-554B-4227-AAB7-3382384B1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6122F-C7A6-4F48-ADE4-3B9C95AAF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78259-2732-49D0-AA6D-28EDD86EE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B56D7-110D-4271-A900-C13B27DD7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51732-058F-476F-8611-E40AC40C2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6E101-EFB5-47FA-9C65-D704B4E65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A5366-349F-4CE7-BF66-B3E8E9FAA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2F2BC-90CF-417B-BFFE-CB2A54119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0B3E-D884-4392-9401-44F62CA74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D8FE4-A564-4783-A7BA-E0DCD83B1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 name="bk" descr=""/>
          <p:cNvPicPr/>
          <p:nvPr/>
        </p:nvPicPr>
        <p:blipFill>
          <a:blip r:embed="rId2"/>
          <a:stretch/>
        </p:blipFill>
        <p:spPr>
          <a:xfrm>
            <a:off x="0" y="0"/>
            <a:ext cx="9144000" cy="6867360"/>
          </a:xfrm>
          <a:prstGeom prst="rect">
            <a:avLst/>
          </a:prstGeom>
          <a:ln w="0">
            <a:noFill/>
          </a:ln>
        </p:spPr>
      </p:pic>
      <p:sp>
        <p:nvSpPr>
          <p:cNvPr id="5" name="PlaceHolder 5"/>
          <p:cNvSpPr>
            <a:spLocks noGrp="1"/>
          </p:cNvSpPr>
          <p:nvPr>
            <p:ph type="sldNum" idx="3"/>
          </p:nvPr>
        </p:nvSpPr>
        <p:spPr>
          <a:xfrm>
            <a:off x="7772040" y="152280"/>
            <a:ext cx="685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Electrofi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1636-1277-4F65-A23B-C43AD411B51C}" type="slidenum">
              <a:rPr b="0" lang="en-US" sz="1400" spc="-1" strike="noStrike">
                <a:solidFill>
                  <a:srgbClr val="ffffff"/>
                </a:solidFill>
                <a:latin typeface="Electrofied"/>
              </a:rPr>
              <a:t>&lt;number&gt;</a:t>
            </a:fld>
            <a:endParaRPr b="0" lang="en-US" sz="1400" spc="-1" strike="noStrike">
              <a:solidFill>
                <a:srgbClr val="000000"/>
              </a:solidFill>
              <a:latin typeface="Times New Roman"/>
            </a:endParaRPr>
          </a:p>
        </p:txBody>
      </p:sp>
      <p:sp>
        <p:nvSpPr>
          <p:cNvPr id="6" name=""/>
          <p:cNvSpPr/>
          <p:nvPr/>
        </p:nvSpPr>
        <p:spPr>
          <a:xfrm>
            <a:off x="7148880" y="182520"/>
            <a:ext cx="75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lectrofied"/>
              </a:rPr>
              <a:t>slide n.°</a:t>
            </a:r>
            <a:endParaRPr b="0" lang="en-US" sz="1200" spc="-1" strike="noStrike">
              <a:solidFill>
                <a:srgbClr val="000000"/>
              </a:solidFill>
              <a:latin typeface="Times New Roman"/>
            </a:endParaRPr>
          </a:p>
        </p:txBody>
      </p:sp>
      <p:sp>
        <p:nvSpPr>
          <p:cNvPr id="7" name=""/>
          <p:cNvSpPr/>
          <p:nvPr/>
        </p:nvSpPr>
        <p:spPr>
          <a:xfrm>
            <a:off x="184320" y="6431040"/>
            <a:ext cx="375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Futura Lt BT"/>
              </a:rPr>
              <a:t>Roma, 16 Giugno 2005 – Relatore: Giorgio Natili</a:t>
            </a:r>
            <a:endParaRPr b="0" lang="en-US" sz="1200" spc="-1" strike="noStrike">
              <a:solidFill>
                <a:srgbClr val="000000"/>
              </a:solidFill>
              <a:latin typeface="Times New Roman"/>
            </a:endParaRPr>
          </a:p>
        </p:txBody>
      </p:sp>
      <p:sp>
        <p:nvSpPr>
          <p:cNvPr id="8" name=""/>
          <p:cNvSpPr/>
          <p:nvPr/>
        </p:nvSpPr>
        <p:spPr>
          <a:xfrm>
            <a:off x="380880" y="533520"/>
            <a:ext cx="8382240" cy="5562360"/>
          </a:xfrm>
          <a:prstGeom prst="roundRect">
            <a:avLst>
              <a:gd name="adj" fmla="val 259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ActionScript.it</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593640" y="5581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ain" descr=""/>
          <p:cNvPicPr/>
          <p:nvPr/>
        </p:nvPicPr>
        <p:blipFill>
          <a:blip r:embed="rId1"/>
          <a:stretch/>
        </p:blipFill>
        <p:spPr>
          <a:xfrm>
            <a:off x="762120" y="762120"/>
            <a:ext cx="7772400" cy="514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Dispositivi Mobili</a:t>
            </a:r>
            <a:endParaRPr b="0" lang="en-US" sz="1800" spc="-1" strike="noStrike">
              <a:solidFill>
                <a:srgbClr val="000000"/>
              </a:solidFill>
              <a:latin typeface="Times New Roman"/>
            </a:endParaRPr>
          </a:p>
        </p:txBody>
      </p:sp>
      <p:sp>
        <p:nvSpPr>
          <p:cNvPr id="75"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127160" y="1976400"/>
            <a:ext cx="6950160" cy="161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Dispositivi Mob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mobil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Founders e Co-Founders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La sezione conterrà delle guide su J2ME, C++, Pocket Pc, dispositivi in generale, Blog Flash Lite (distribuito dopo l’evento), guide all’integrazione tra diverse tecnologie, ecc.</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470E3A5-4866-4C84-A0FE-7E9DDFCC53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Rivista Digitale</a:t>
            </a:r>
            <a:endParaRPr b="0" lang="en-US" sz="1800" spc="-1" strike="noStrike">
              <a:solidFill>
                <a:srgbClr val="000000"/>
              </a:solidFill>
              <a:latin typeface="Times New Roman"/>
            </a:endParaRPr>
          </a:p>
        </p:txBody>
      </p:sp>
      <p:sp>
        <p:nvSpPr>
          <p:cNvPr id="78"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127160" y="1976400"/>
            <a:ext cx="6950160" cy="4028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vista Digital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magazin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Fabio Biondi, Daniele Galiffa, Giorgio Nat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Editoriale / Menu</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Breve introduzioni alla rivista con indice dei contenuti della rivista. </a:t>
            </a:r>
            <a:br>
              <a:rPr sz="1400"/>
            </a:br>
            <a:r>
              <a:rPr b="0" lang="it-IT" sz="1400" spc="-1" strike="noStrike">
                <a:solidFill>
                  <a:srgbClr val="000000"/>
                </a:solidFill>
                <a:latin typeface="Arial"/>
                <a:ea typeface="Times New Roman"/>
              </a:rPr>
              <a:t>Mi piacerebbe avere uno screenshot per quasi tutti i  tutorial/articoli, molto colorato.. ben fatto insomma. Come fosse una vera rivista.</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News</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Le ultime notizie dal web prese da actionscript.it e non solo. Cercheremo di vivacizzare ulteriormente questa sezione anche nel portale actionscript.it in modo da risultare decisamente piu’ util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Mobile (news, links, tutorials ecc.)</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Un intera sezione dedicata al mobile (Flashlite e PocketPC), presente in ogni numero, con links, risorse, tips, tutorials (presi da as.it), e magari demo di sw, contest per l’applicazione del mese e via dicend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CF7B43D-BBA7-470E-9CCF-833DB063E7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Rivista Digitale</a:t>
            </a:r>
            <a:endParaRPr b="0" lang="en-US" sz="1800" spc="-1" strike="noStrike">
              <a:solidFill>
                <a:srgbClr val="000000"/>
              </a:solidFill>
              <a:latin typeface="Times New Roman"/>
            </a:endParaRPr>
          </a:p>
        </p:txBody>
      </p:sp>
      <p:sp>
        <p:nvSpPr>
          <p:cNvPr id="81"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127160" y="1600200"/>
            <a:ext cx="6950160" cy="445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Tutorials selezionati dal portale su:</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Flash</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Flash Communication Server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ltri sw (Remoting, Flex, Central, ecc. occasionalment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Vetrina/Gallery Users</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Questa sezione potrebbe partire successivamente magari introducendola prima dal portal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I migliori siti web, applicazioni ecc. dei nostri utenti. Insomma pubblicità gratuita per loro.</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Potrebbe attirare nuovi utenti, pubblicità esterne, ecc.</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Anche nel portale introdurrei una categoria simile, di cui ti parlavo gia nell’email, dove gli utenti possono spammare i loro lavori. Dopo di che si potrebbe partire con una sezione dedicata, una giuria interna, far scegliere i 3/5 piu belli e metterli ai voti degli utenti. I migliori andranno sulla rivista con una breve recensione scritta dagli autor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Books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ecensioni libri su design e programmazione. Potrebbe attirare sponsor come oreilly, macromedia, ecc. e comunque è interessante per i lettori.</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964953E-1EFD-4F0E-8539-02944D3D1F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Classes</a:t>
            </a:r>
            <a:endParaRPr b="0" lang="en-US" sz="1800" spc="-1" strike="noStrike">
              <a:solidFill>
                <a:srgbClr val="000000"/>
              </a:solidFill>
              <a:latin typeface="Times New Roman"/>
            </a:endParaRPr>
          </a:p>
        </p:txBody>
      </p:sp>
      <p:sp>
        <p:nvSpPr>
          <p:cNvPr id="84"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127160" y="1976400"/>
            <a:ext cx="6950160" cy="99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lasses</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classes.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Luca Mezzalira e Giorgio Nat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6" name="index" descr=""/>
          <p:cNvPicPr/>
          <p:nvPr/>
        </p:nvPicPr>
        <p:blipFill>
          <a:blip r:embed="rId1"/>
          <a:stretch/>
        </p:blipFill>
        <p:spPr>
          <a:xfrm>
            <a:off x="4724280" y="2733840"/>
            <a:ext cx="3810240" cy="3362040"/>
          </a:xfrm>
          <a:prstGeom prst="rect">
            <a:avLst/>
          </a:prstGeom>
          <a:ln w="0">
            <a:noFill/>
          </a:ln>
        </p:spPr>
      </p:pic>
      <p:sp>
        <p:nvSpPr>
          <p:cNvPr id="3" name="PlaceHolder 2"/>
          <p:cNvSpPr>
            <a:spLocks noGrp="1"/>
          </p:cNvSpPr>
          <p:nvPr>
            <p:ph type="sldNum" idx="3"/>
          </p:nvPr>
        </p:nvSpPr>
        <p:spPr/>
        <p:txBody>
          <a:bodyPr/>
          <a:p>
            <a:fld id="{73876964-0FE8-4E8D-9292-C768624C20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Accessibilità</a:t>
            </a:r>
            <a:endParaRPr b="0" lang="en-US" sz="1800" spc="-1" strike="noStrike">
              <a:solidFill>
                <a:srgbClr val="000000"/>
              </a:solidFill>
              <a:latin typeface="Times New Roman"/>
            </a:endParaRPr>
          </a:p>
        </p:txBody>
      </p:sp>
      <p:sp>
        <p:nvSpPr>
          <p:cNvPr id="88"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127160" y="1976400"/>
            <a:ext cx="6950160" cy="161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Accessibilità</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accessibil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Giorgio Natili e Livio Mondin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La sezione conterrà delle guide, vari tutorial, un tool di validazione degli swf secondo rispetto ai punti di controllo delle WCAG inerenti la scelta dei colori, la frequenza dei frame per secondo, ecc., un tool per la creazione di captioning all’interno dei file swf.</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229ECB4-CF3E-4BE6-918B-E24A2469F9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Quando…</a:t>
            </a:r>
            <a:endParaRPr b="0" lang="en-US" sz="1800" spc="-1" strike="noStrike">
              <a:solidFill>
                <a:srgbClr val="000000"/>
              </a:solidFill>
              <a:latin typeface="Times New Roman"/>
            </a:endParaRPr>
          </a:p>
        </p:txBody>
      </p:sp>
      <p:sp>
        <p:nvSpPr>
          <p:cNvPr id="91"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127160" y="1976400"/>
            <a:ext cx="6950160" cy="264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Dispositivi Mob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Novembre 2005</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vista Digital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Autunno 2005</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lasses</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Estate 2005</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Accessibilità</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Inizio 2006</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47D34D7-76A8-40A3-9685-95195E42C7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Iniziative – Liste di Discussione</a:t>
            </a:r>
            <a:endParaRPr b="0" lang="en-US" sz="1800" spc="-1" strike="noStrike">
              <a:solidFill>
                <a:srgbClr val="000000"/>
              </a:solidFill>
              <a:latin typeface="Times New Roman"/>
            </a:endParaRPr>
          </a:p>
        </p:txBody>
      </p:sp>
      <p:sp>
        <p:nvSpPr>
          <p:cNvPr id="94"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127160" y="1976400"/>
            <a:ext cx="6950160" cy="264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Liste di discussion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http://list.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FlashCoders-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FlashComm-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FlashDesigners-ActionScript.i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FlashServerSid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Job-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ObjectOrientedProgramming-ActionScript.i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Tools-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FlashMobile-ActionScript.i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AA2FE6A-8D1E-4321-8FE7-7481B66304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Iniziative – E-learning</a:t>
            </a:r>
            <a:endParaRPr b="0" lang="en-US" sz="1800" spc="-1" strike="noStrike">
              <a:solidFill>
                <a:srgbClr val="000000"/>
              </a:solidFill>
              <a:latin typeface="Times New Roman"/>
            </a:endParaRPr>
          </a:p>
        </p:txBody>
      </p:sp>
      <p:sp>
        <p:nvSpPr>
          <p:cNvPr id="97"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127160" y="1976400"/>
            <a:ext cx="695016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Le lezioni di e-learning riprenderanno regolarmente a partire dal prossimo mese utilizzando la nuova piattaforma.</a:t>
            </a:r>
            <a:endParaRPr b="0" lang="en-US" sz="1400" spc="-1" strike="noStrike">
              <a:solidFill>
                <a:srgbClr val="000000"/>
              </a:solidFill>
              <a:latin typeface="Times New Roman"/>
            </a:endParaRPr>
          </a:p>
        </p:txBody>
      </p:sp>
      <p:pic>
        <p:nvPicPr>
          <p:cNvPr id="99" name="Untitled-3" descr=""/>
          <p:cNvPicPr/>
          <p:nvPr/>
        </p:nvPicPr>
        <p:blipFill>
          <a:blip r:embed="rId1"/>
          <a:stretch/>
        </p:blipFill>
        <p:spPr>
          <a:xfrm>
            <a:off x="3657600" y="2438280"/>
            <a:ext cx="4505400" cy="3462480"/>
          </a:xfrm>
          <a:prstGeom prst="rect">
            <a:avLst/>
          </a:prstGeom>
          <a:ln w="0">
            <a:noFill/>
          </a:ln>
        </p:spPr>
      </p:pic>
      <p:sp>
        <p:nvSpPr>
          <p:cNvPr id="3" name="PlaceHolder 2"/>
          <p:cNvSpPr>
            <a:spLocks noGrp="1"/>
          </p:cNvSpPr>
          <p:nvPr>
            <p:ph type="sldNum" idx="3"/>
          </p:nvPr>
        </p:nvSpPr>
        <p:spPr/>
        <p:txBody>
          <a:bodyPr/>
          <a:p>
            <a:fld id="{AAEECA0F-49D5-4995-B2A1-F9B3EE2985A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27160" y="1711440"/>
            <a:ext cx="6950160" cy="43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ActionScript.it è una community nata più di un anno fa sotto un diverso dominio grazie agli sforzi e alla partecipazione di alcune persone che ho incontrato nel dicembre 2003 e che reputo eccezionali e di esempio.E' nata con l'intento di fornire una risorsa, un aiuto per quanto possibile, a tutti coloro i quali lavorando con Flash possono incontrare delle difficoltà o aver bisogno di qualche suggerimento...Lo spirito che ha sempre guidato questo sito, e che vorrei continuasse a guidarlo, è quello della community dove tutti possono esprimere le proprie opinioni e dove chiunque voglia contribuire attivamente e seriamente è il benvenuto.Le notti insonni passate con molti componenti di ActionScript.it sono il fulcro di questo concetto secondo il quale un po' di sacrificio comune può portare avanti iniziative che dal nulla, grazie a tutti gli iscritti al forum e a tutti i visitatori, possono diventare nel loro piccolo un punto di riferimento.AS.it non ha mai avuto la brama di emergere o di "strillare" al web novità, annunci, ecc. ma ha sempre solo avuto voglia di supportare chiunque ne facesse parte sia in maniera assidua che occasionalmente.AS.it è un sito che appartiene a chi lo frequenta e a chi ne vuole e ne fa parte come staff, non ha secondi fini di nessun tipo e non ha in progetto di creare al suo interno, o tanto meno come satellite, attività che possano ritenersi "a fine di lucro".La voglia di condividere le conoscenze acquisite e la passione per il nostro lavoro è il secondo, ma non meno importante, volano che ci fa mettere tante energie in questo progetto in cui crediamo e "lavoriamo" per passione.La mia speranza è che questo sia sempre chiaro a tutti voi che, direttamente e indirettamente, fate parte di questa commun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440" y="762120"/>
            <a:ext cx="75438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Cos’è as.i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30E8D85-F11D-45EE-BA98-6DE928B028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o Staff (1/3)</a:t>
            </a:r>
            <a:endParaRPr b="0" lang="en-US" sz="1800" spc="-1" strike="noStrike">
              <a:solidFill>
                <a:srgbClr val="000000"/>
              </a:solidFill>
              <a:latin typeface="Times New Roman"/>
            </a:endParaRPr>
          </a:p>
        </p:txBody>
      </p:sp>
      <p:sp>
        <p:nvSpPr>
          <p:cNvPr id="53"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127160" y="2090880"/>
            <a:ext cx="6950160" cy="300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Administrator and Founder User Group</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iorgio Natili</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Founder Members</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Iacopini Fabrizio (Forum Administrator)</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aniele Monti (Blog Coordinator)</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Co-Founder Members</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abio Biondi (Magazine Coordinator)</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iuseppe Sorce (Forum Coordinator)</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Andrea Trento (Mobile Coordinato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AF88C3A-DA38-4E37-96E1-9A143E6BC2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o Staff (2/3)</a:t>
            </a:r>
            <a:endParaRPr b="0" lang="en-US" sz="1800" spc="-1" strike="noStrike">
              <a:solidFill>
                <a:srgbClr val="000000"/>
              </a:solidFill>
              <a:latin typeface="Times New Roman"/>
            </a:endParaRPr>
          </a:p>
        </p:txBody>
      </p:sp>
      <p:sp>
        <p:nvSpPr>
          <p:cNvPr id="56"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127160" y="1776240"/>
            <a:ext cx="6950160" cy="40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Moderatori</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Alberto Inuggi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Andrea Trent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aniel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lagers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iorgio Natili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otoandplay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Iaco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ars Spider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Negatyv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aolib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epigno75</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aia Manasi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ToFor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Wish</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638192F-0CCA-4D40-8BA5-E745DF517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o Staff (3/3)</a:t>
            </a:r>
            <a:endParaRPr b="0" lang="en-US" sz="1800" spc="-1" strike="noStrike">
              <a:solidFill>
                <a:srgbClr val="000000"/>
              </a:solidFill>
              <a:latin typeface="Times New Roman"/>
            </a:endParaRPr>
          </a:p>
        </p:txBody>
      </p:sp>
      <p:sp>
        <p:nvSpPr>
          <p:cNvPr id="59"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27160" y="2090880"/>
            <a:ext cx="6950160" cy="2200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Team Members</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arco Santelli</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Luca Mezzalir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Andrea Maran</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hicco Flash</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ea typeface="Arial"/>
              </a:rPr>
              <a:t>Editor in chief</a:t>
            </a:r>
            <a:r>
              <a:rPr b="0" lang="it-IT"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Antonio Napolitano</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2B06630-673D-4C8D-8841-3754315920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Prossimi eventi (1/3)</a:t>
            </a:r>
            <a:endParaRPr b="0" lang="en-US" sz="1800" spc="-1" strike="noStrike">
              <a:solidFill>
                <a:srgbClr val="000000"/>
              </a:solidFill>
              <a:latin typeface="Times New Roman"/>
            </a:endParaRPr>
          </a:p>
        </p:txBody>
      </p:sp>
      <p:sp>
        <p:nvSpPr>
          <p:cNvPr id="62"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127160" y="1976400"/>
            <a:ext cx="6950160" cy="327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Flash is Mobil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Location: Milan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ata: 16/9/05</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Streaming video e Applicazioni multi-utent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Location: Rom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ata: 18/11/05</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Object Oriented Programming con Flash</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Location: Firenz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ata: 27/01/06</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3A72194-58B2-4F1D-9439-AB865659A9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Prossimi eventi (2/3)</a:t>
            </a:r>
            <a:endParaRPr b="0" lang="en-US" sz="1800" spc="-1" strike="noStrike">
              <a:solidFill>
                <a:srgbClr val="000000"/>
              </a:solidFill>
              <a:latin typeface="Times New Roman"/>
            </a:endParaRPr>
          </a:p>
        </p:txBody>
      </p:sp>
      <p:sp>
        <p:nvSpPr>
          <p:cNvPr id="65"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127160" y="1976400"/>
            <a:ext cx="6950160" cy="300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tooning e tecniche avanzate di animazion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cation: Terni</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a: 10/03/06</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lash e la gestione dei dati esterni</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cation: Rom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a: 12/05/06</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grare Flash in applicazioni desktop sviluppate in .net</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cation: Padov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a: 29/06/06</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FD69184-A952-4F2D-B28D-8D3F2C2A74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Prossimi eventi (3/3)</a:t>
            </a:r>
            <a:endParaRPr b="0" lang="en-US" sz="1800" spc="-1" strike="noStrike">
              <a:solidFill>
                <a:srgbClr val="000000"/>
              </a:solidFill>
              <a:latin typeface="Times New Roman"/>
            </a:endParaRPr>
          </a:p>
        </p:txBody>
      </p:sp>
      <p:sp>
        <p:nvSpPr>
          <p:cNvPr id="68"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127160" y="1976400"/>
            <a:ext cx="69501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Webb.it 2005</a:t>
            </a:r>
            <a:endParaRPr b="0" lang="en-US" sz="1600" spc="-1" strike="noStrike">
              <a:solidFill>
                <a:srgbClr val="000000"/>
              </a:solidFill>
              <a:latin typeface="Times New Roman"/>
            </a:endParaRPr>
          </a:p>
        </p:txBody>
      </p:sp>
      <p:pic>
        <p:nvPicPr>
          <p:cNvPr id="70" name="er" descr=""/>
          <p:cNvPicPr/>
          <p:nvPr/>
        </p:nvPicPr>
        <p:blipFill>
          <a:blip r:embed="rId1"/>
          <a:stretch/>
        </p:blipFill>
        <p:spPr>
          <a:xfrm>
            <a:off x="2590920" y="2819520"/>
            <a:ext cx="3867120" cy="1687320"/>
          </a:xfrm>
          <a:prstGeom prst="rect">
            <a:avLst/>
          </a:prstGeom>
          <a:ln w="0">
            <a:noFill/>
          </a:ln>
        </p:spPr>
      </p:pic>
      <p:sp>
        <p:nvSpPr>
          <p:cNvPr id="3" name="PlaceHolder 2"/>
          <p:cNvSpPr>
            <a:spLocks noGrp="1"/>
          </p:cNvSpPr>
          <p:nvPr>
            <p:ph type="sldNum" idx="3"/>
          </p:nvPr>
        </p:nvSpPr>
        <p:spPr/>
        <p:txBody>
          <a:bodyPr/>
          <a:p>
            <a:fld id="{66E367F5-B86F-4AC4-B6D8-EEE818F203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ctionScript.it – Macromedia User Group</a:t>
            </a:r>
            <a:br>
              <a:rPr sz="2400"/>
            </a:br>
            <a:r>
              <a:rPr b="1" lang="it-IT" sz="1800" spc="-1" strike="noStrike">
                <a:solidFill>
                  <a:srgbClr val="000000"/>
                </a:solidFill>
                <a:latin typeface="Verdana"/>
              </a:rPr>
              <a:t>Le Nuove sezioni - Introduzione</a:t>
            </a:r>
            <a:endParaRPr b="0" lang="en-US" sz="1800" spc="-1" strike="noStrike">
              <a:solidFill>
                <a:srgbClr val="000000"/>
              </a:solidFill>
              <a:latin typeface="Times New Roman"/>
            </a:endParaRPr>
          </a:p>
        </p:txBody>
      </p:sp>
      <p:sp>
        <p:nvSpPr>
          <p:cNvPr id="72" name=""/>
          <p:cNvSpPr/>
          <p:nvPr/>
        </p:nvSpPr>
        <p:spPr>
          <a:xfrm>
            <a:off x="974880" y="2017800"/>
            <a:ext cx="755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127160" y="1976400"/>
            <a:ext cx="6950160" cy="358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Dispositivi Mob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mobil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Founders e Co-Founders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vista Digital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magazin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Fabio Biondi, Daniele Galiffa, Giorgio Nat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lasses</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classes.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Luca Mezzalira e Giorgio Natili</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Accessibilità</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URL: http://accessibile.actionscript.it</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Responsabili: Giorgio Natili e Livio Mondini</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B735AE6-8C1B-4022-B7CE-7DA12E3372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11:20:15Z</dcterms:created>
  <dc:creator>Giorgio Natili</dc:creator>
  <dc:description/>
  <dc:language>en-US</dc:language>
  <cp:lastModifiedBy>utente</cp:lastModifiedBy>
  <dcterms:modified xsi:type="dcterms:W3CDTF">2005-06-16T08:27:23Z</dcterms:modified>
  <cp:revision>244</cp:revision>
  <dc:subject/>
  <dc:title>Presentazione di PowerPoint</dc:title>
</cp:coreProperties>
</file>