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30BE-FC81-4C6B-AC29-8F044678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FE79-2928-4847-BBBC-F7A5BB5C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7EB36-17CC-4B15-AB95-F3B94A97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4BB0E-B52E-4382-88B7-7C770892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8F6D6-5297-425D-AFB7-F3280E1A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E7F69-EC88-4309-B26C-01364D54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A12E0-6651-4959-8057-A7877B9E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7A241-F7BE-4593-B97C-1C145565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8C608-7746-4ECA-9DD2-1FF9DD93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3D706-BAE4-4F03-84DD-4A690367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C819B-B245-48CE-A7D1-CE849CB7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7E4CE-954E-4D8A-8468-ED75892D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3ACE-419F-4FE0-A3CA-550A5F27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1B964-9C99-401F-B787-5FC5A186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F3821-2A6B-4C24-B67E-61415185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F9B93-4D6C-4BD6-90C5-7E211424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D8AD0-2E28-47C4-B6F6-777235D3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813FD-B812-40FE-8A71-BE3256A7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CBB9E-F521-4303-82F4-E685E989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5D925-6A5D-4151-8DD9-4657C640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C9574-96FD-4521-9738-B351B6DC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F5D86-334B-4346-B042-7EDEF1EB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6AEB2-7DDB-4D69-BA7F-C6EF3085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BD1-A5B8-413B-9F3A-7BB68950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32D6A-5503-43F2-95C9-7D7FB477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9A642-9623-4C51-BBBC-70AD0874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83614-8AA4-4BED-9E86-E267B062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A5E72-A811-400A-8025-4BD1E7FE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E48EC-90D2-48EB-BABD-FFBE71C9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F450B-678E-43A2-AFE3-BE01B29C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6E675-1CE1-48E3-8EB2-0E5B1567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44075-83AE-4C0F-81E0-154EB9AD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0FFC9-4FB2-48E8-9813-8A904B4D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09FF1-D7E0-4E53-8B1B-9776FCBA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DDFE-FF73-4AC2-978C-4BECF12D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4E8B8-C733-46B8-80F8-A876F627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F4A94-5036-4E66-8256-E64D0F1B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9FA29-8CC1-4B82-A539-064C1A4C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2361-6E5F-485D-81B3-81F520FB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9046-5C92-4AEA-BAE7-4E48051D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FEC9-9918-41AD-B252-EF50A802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A85C-0157-4A3B-9611-E03C91B2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14C0-5B13-4D4A-85CD-0778FA6F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A8B9-7F75-4C52-82CE-4A24FFF9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EDE4-9A3D-4888-8278-22ABC53B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9199-3C84-48D4-8A76-3A695411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A4F2-80CF-46F8-889E-7058813D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CEF5-BBF7-4C9D-8C83-C217CBA7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F4F1-7442-4467-AB7F-066095E6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0D80-CE64-4594-A995-FC2D6885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BB0CD-63D9-409F-9E12-6E4D3B4F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C97C3-657D-4203-BD51-DD160E04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79597-5F51-497D-BBEE-0804C9AD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1A22B-A113-4DFF-9004-7A6A1833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9C1A8-D40C-48A9-B6D1-897F0ABD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582-FE16-462A-9D2A-F0B521A8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C3F17-2E99-4606-8B60-DD252BC3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21A3F-840A-45C9-B498-B876385B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ABB22-5F88-415B-B69D-1740DA97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B9313-5BBE-4B72-9F9C-25BDC1C5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83460-AC6B-4DC6-99BA-5C003D77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EFAFE-2634-4C36-9955-B779626B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4673F-331F-4358-8F84-9950B3CB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DBF70-89F9-4DFD-81F7-88AB51B8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DD271-C8B1-4167-BD46-42CAFE9D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5D6FC-7B8D-495C-B38D-FC92A2A3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DCD6-6EDC-41CD-AF70-7E4D8DB5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57570-22F8-4552-8E3F-DCE62940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7AB55-DF62-40F4-92E8-01F5CE3C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E3038-9130-4BCB-A5EF-1D263131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419A3-74E6-4626-AE04-92FECDE7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B5330-F6B8-433A-BA5B-2C18690A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BFA5B-7215-4D36-B257-B9DB25FC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2CEC3-907B-4F90-A59B-6D9B1DC4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5B830-3180-4027-AC69-B47A888D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E950C-89B4-4BA5-ABF2-74A20557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C22F4-7671-4C3E-867F-2D3E6914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B12-1ED9-413C-B4FA-883C70A1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A80DE-0C16-41F6-92BE-9639D31F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AED71-6611-431D-81FA-0E36F328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2FCF5-6BE9-44EA-A43D-B8B71DD8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297DB-0C58-433A-8838-AAC18EEB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557A9-AF6A-4BD0-8EF6-0780B6BD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6804C-A6E3-4859-A5C2-AA6041AE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D7677-ADA8-4383-A0D4-BBC6047B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13184-E539-427A-8E27-AC26417C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D338D-FE26-44AF-9103-98FF5193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8F96C-21C4-4907-A836-E5333D20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C30F-A413-4E1D-9AFB-FC7AA304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3584F-B30F-4CD1-A8AA-3DB1C886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41AC8-ADAC-48F8-B728-505DDBA8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8584F-1160-459A-9257-002AF97F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E587E-F500-4CD2-BFC9-40FCEFC3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37B3D-73FF-433E-B791-5820612A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9CC84-4B55-43AD-B3A0-0824232A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C59A6-7340-4FAB-933A-EB34F7A1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02F81-7A1B-4688-9886-8F2B301A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51104-76EC-43EB-B099-BE936AAC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77447-80E6-4423-BBC3-FBBA5E6C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CF2C-494B-46FE-9FB7-EE935735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30584-E87F-405F-A38C-4EDC7CE1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F4FFF-C627-40E5-BA49-7689C97A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CCFE5-A8F5-487A-8F08-D171D2D7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B5CA5-6C38-45A1-9FE1-7D0FAA30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62792-074D-4A93-8C76-A73ED3D4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83C1F-2483-40FD-9508-A3D88E9E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5B56F-7B0A-4CE4-A083-E97F96F2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89952-6DE4-4360-9A1C-908674FA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743AD-1163-4290-9D02-5C7D4AE8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4EB41-761C-42EF-B02F-0D24F44C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B15-A678-43DD-AE91-5C645E49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B1D8A-13F4-475F-AEFA-490E2F85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D8EA1-E31D-444C-B973-38AF19DC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6767E-B652-4045-BFB8-F7727146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E9B99-C425-4850-BA59-51FD215B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4F7AB-1FF8-4C5A-8403-DB8B27D7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415A1-FCF4-46C9-9D44-A1E1CEA9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8FC72-E43E-4AB3-861D-7984E080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32DCD-6490-4E85-A0E3-4B477969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AAEC9-5CC4-48E9-9569-AE4D0B8B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DDC15-4B6E-417B-9501-C04CAE37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674F-67A2-4F19-AAE8-077B48F5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329C3-0AE2-450D-86AB-BAFCF181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E0DA8-BAC5-47D2-98A3-CAAC4DE5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B9ED8-52D1-483F-9E50-7009164A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28501-27D0-4B94-89AD-508E45C9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2A3B8-A346-4093-8395-5C916CBE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7DE24-1B70-4CC7-8EDE-8795D7B6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18110-0537-4505-AB16-748C1505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BA24C-853F-405A-9C9D-160EF40D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D914C-01BA-4F1B-9293-F64D2D01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135CD-47CE-41D9-8871-1586096B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Box 1029"/>
          <p:cNvSpPr/>
          <p:nvPr/>
        </p:nvSpPr>
        <p:spPr>
          <a:xfrm>
            <a:off x="211680" y="643104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Futura Lt BT"/>
              </a:rPr>
              <a:t>Roma, 13 maggi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Rectangle 1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31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ounded Rectangle 1033"/>
          <p:cNvSpPr/>
          <p:nvPr/>
        </p:nvSpPr>
        <p:spPr>
          <a:xfrm>
            <a:off x="425520" y="577800"/>
            <a:ext cx="8381880" cy="5562720"/>
          </a:xfrm>
          <a:prstGeom prst="roundRect">
            <a:avLst>
              <a:gd name="adj" fmla="val 259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ounded Rectangle 1034"/>
          <p:cNvSpPr/>
          <p:nvPr/>
        </p:nvSpPr>
        <p:spPr>
          <a:xfrm>
            <a:off x="380880" y="533520"/>
            <a:ext cx="8382240" cy="5562360"/>
          </a:xfrm>
          <a:prstGeom prst="roundRect">
            <a:avLst>
              <a:gd name="adj" fmla="val 25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08A30041-9770-4B68-A31F-5AE62722554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1029"/>
          <p:cNvSpPr/>
          <p:nvPr/>
        </p:nvSpPr>
        <p:spPr>
          <a:xfrm>
            <a:off x="211680" y="643104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Futura Lt BT"/>
              </a:rPr>
              <a:t>Roma, 13 maggi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Rectangle 1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1031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ounded Rectangle 1033"/>
          <p:cNvSpPr/>
          <p:nvPr/>
        </p:nvSpPr>
        <p:spPr>
          <a:xfrm>
            <a:off x="425520" y="577800"/>
            <a:ext cx="8381880" cy="5562720"/>
          </a:xfrm>
          <a:prstGeom prst="roundRect">
            <a:avLst>
              <a:gd name="adj" fmla="val 259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ounded Rectangle 1034"/>
          <p:cNvSpPr/>
          <p:nvPr/>
        </p:nvSpPr>
        <p:spPr>
          <a:xfrm>
            <a:off x="380880" y="533520"/>
            <a:ext cx="8382240" cy="5562360"/>
          </a:xfrm>
          <a:prstGeom prst="roundRect">
            <a:avLst>
              <a:gd name="adj" fmla="val 25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5F39A628-FD5D-4959-A61C-50E5510A759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1029"/>
          <p:cNvSpPr/>
          <p:nvPr/>
        </p:nvSpPr>
        <p:spPr>
          <a:xfrm>
            <a:off x="211680" y="643104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Futura Lt BT"/>
              </a:rPr>
              <a:t>Roma, 13 maggi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Rectangle 1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1031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ounded Rectangle 1033"/>
          <p:cNvSpPr/>
          <p:nvPr/>
        </p:nvSpPr>
        <p:spPr>
          <a:xfrm>
            <a:off x="425520" y="577800"/>
            <a:ext cx="8381880" cy="5562720"/>
          </a:xfrm>
          <a:prstGeom prst="roundRect">
            <a:avLst>
              <a:gd name="adj" fmla="val 259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ounded Rectangle 1034"/>
          <p:cNvSpPr/>
          <p:nvPr/>
        </p:nvSpPr>
        <p:spPr>
          <a:xfrm>
            <a:off x="380880" y="533520"/>
            <a:ext cx="8382240" cy="5562360"/>
          </a:xfrm>
          <a:prstGeom prst="roundRect">
            <a:avLst>
              <a:gd name="adj" fmla="val 25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2B984AF8-9429-45F0-8D80-3DB8EF6AA31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029"/>
          <p:cNvSpPr/>
          <p:nvPr/>
        </p:nvSpPr>
        <p:spPr>
          <a:xfrm>
            <a:off x="211680" y="643104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Futura Lt BT"/>
              </a:rPr>
              <a:t>Roma, 13 maggi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Rectangle 1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31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ounded Rectangle 1033"/>
          <p:cNvSpPr/>
          <p:nvPr/>
        </p:nvSpPr>
        <p:spPr>
          <a:xfrm>
            <a:off x="425520" y="577800"/>
            <a:ext cx="8381880" cy="5562720"/>
          </a:xfrm>
          <a:prstGeom prst="roundRect">
            <a:avLst>
              <a:gd name="adj" fmla="val 259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ounded Rectangle 1034"/>
          <p:cNvSpPr/>
          <p:nvPr/>
        </p:nvSpPr>
        <p:spPr>
          <a:xfrm>
            <a:off x="380880" y="533520"/>
            <a:ext cx="8382240" cy="5562360"/>
          </a:xfrm>
          <a:prstGeom prst="roundRect">
            <a:avLst>
              <a:gd name="adj" fmla="val 25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57B30972-AB99-4183-8D0D-090D7AD1BBB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029"/>
          <p:cNvSpPr/>
          <p:nvPr/>
        </p:nvSpPr>
        <p:spPr>
          <a:xfrm>
            <a:off x="211680" y="643104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Futura Lt BT"/>
              </a:rPr>
              <a:t>Roma, 13 maggi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Rectangle 1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31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ounded Rectangle 1033"/>
          <p:cNvSpPr/>
          <p:nvPr/>
        </p:nvSpPr>
        <p:spPr>
          <a:xfrm>
            <a:off x="425520" y="577800"/>
            <a:ext cx="8381880" cy="5562720"/>
          </a:xfrm>
          <a:prstGeom prst="roundRect">
            <a:avLst>
              <a:gd name="adj" fmla="val 259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ounded Rectangle 1034"/>
          <p:cNvSpPr/>
          <p:nvPr/>
        </p:nvSpPr>
        <p:spPr>
          <a:xfrm>
            <a:off x="380880" y="533520"/>
            <a:ext cx="8382240" cy="5562360"/>
          </a:xfrm>
          <a:prstGeom prst="roundRect">
            <a:avLst>
              <a:gd name="adj" fmla="val 25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20BCB280-7A02-4557-8111-C8FA1520D43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029"/>
          <p:cNvSpPr/>
          <p:nvPr/>
        </p:nvSpPr>
        <p:spPr>
          <a:xfrm>
            <a:off x="211680" y="643104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Futura Lt BT"/>
              </a:rPr>
              <a:t>Roma, 13 maggi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Rectangle 1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031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ounded Rectangle 1033"/>
          <p:cNvSpPr/>
          <p:nvPr/>
        </p:nvSpPr>
        <p:spPr>
          <a:xfrm>
            <a:off x="425520" y="577800"/>
            <a:ext cx="8381880" cy="5562720"/>
          </a:xfrm>
          <a:prstGeom prst="roundRect">
            <a:avLst>
              <a:gd name="adj" fmla="val 259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ounded Rectangle 1034"/>
          <p:cNvSpPr/>
          <p:nvPr/>
        </p:nvSpPr>
        <p:spPr>
          <a:xfrm>
            <a:off x="380880" y="533520"/>
            <a:ext cx="8382240" cy="5562360"/>
          </a:xfrm>
          <a:prstGeom prst="roundRect">
            <a:avLst>
              <a:gd name="adj" fmla="val 25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6EA81CCB-4A5D-4686-9297-D9D1B171F99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029"/>
          <p:cNvSpPr/>
          <p:nvPr/>
        </p:nvSpPr>
        <p:spPr>
          <a:xfrm>
            <a:off x="211680" y="643104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Futura Lt BT"/>
              </a:rPr>
              <a:t>Roma, 13 maggi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Rectangle 1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031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ounded Rectangle 1033"/>
          <p:cNvSpPr/>
          <p:nvPr/>
        </p:nvSpPr>
        <p:spPr>
          <a:xfrm>
            <a:off x="425520" y="577800"/>
            <a:ext cx="8381880" cy="5562720"/>
          </a:xfrm>
          <a:prstGeom prst="roundRect">
            <a:avLst>
              <a:gd name="adj" fmla="val 259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ounded Rectangle 1034"/>
          <p:cNvSpPr/>
          <p:nvPr/>
        </p:nvSpPr>
        <p:spPr>
          <a:xfrm>
            <a:off x="380880" y="533520"/>
            <a:ext cx="8382240" cy="5562360"/>
          </a:xfrm>
          <a:prstGeom prst="roundRect">
            <a:avLst>
              <a:gd name="adj" fmla="val 25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5904FE79-AF1A-428F-8AF0-B05BA2A7E78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029"/>
          <p:cNvSpPr/>
          <p:nvPr/>
        </p:nvSpPr>
        <p:spPr>
          <a:xfrm>
            <a:off x="211680" y="643104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Futura Lt BT"/>
              </a:rPr>
              <a:t>Roma, 13 maggi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Rectangle 1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031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ounded Rectangle 1033"/>
          <p:cNvSpPr/>
          <p:nvPr/>
        </p:nvSpPr>
        <p:spPr>
          <a:xfrm>
            <a:off x="425520" y="577800"/>
            <a:ext cx="8381880" cy="5562720"/>
          </a:xfrm>
          <a:prstGeom prst="roundRect">
            <a:avLst>
              <a:gd name="adj" fmla="val 259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ounded Rectangle 1034"/>
          <p:cNvSpPr/>
          <p:nvPr/>
        </p:nvSpPr>
        <p:spPr>
          <a:xfrm>
            <a:off x="380880" y="533520"/>
            <a:ext cx="8382240" cy="5562360"/>
          </a:xfrm>
          <a:prstGeom prst="roundRect">
            <a:avLst>
              <a:gd name="adj" fmla="val 25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8D20FB2C-E63E-461C-B653-09028DD1C75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1029"/>
          <p:cNvSpPr/>
          <p:nvPr/>
        </p:nvSpPr>
        <p:spPr>
          <a:xfrm>
            <a:off x="211680" y="643104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Futura Lt BT"/>
              </a:rPr>
              <a:t>Roma, 13 maggi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Rectangle 1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031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ounded Rectangle 1033"/>
          <p:cNvSpPr/>
          <p:nvPr/>
        </p:nvSpPr>
        <p:spPr>
          <a:xfrm>
            <a:off x="425520" y="577800"/>
            <a:ext cx="8381880" cy="5562720"/>
          </a:xfrm>
          <a:prstGeom prst="roundRect">
            <a:avLst>
              <a:gd name="adj" fmla="val 259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ounded Rectangle 1034"/>
          <p:cNvSpPr/>
          <p:nvPr/>
        </p:nvSpPr>
        <p:spPr>
          <a:xfrm>
            <a:off x="380880" y="533520"/>
            <a:ext cx="8382240" cy="5562360"/>
          </a:xfrm>
          <a:prstGeom prst="roundRect">
            <a:avLst>
              <a:gd name="adj" fmla="val 25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1D3B53D4-AF6B-426D-BAD7-A44254D2C00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1029"/>
          <p:cNvSpPr/>
          <p:nvPr/>
        </p:nvSpPr>
        <p:spPr>
          <a:xfrm>
            <a:off x="211680" y="643104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Futura Lt BT"/>
              </a:rPr>
              <a:t>Roma, 13 maggi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Rectangle 1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031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ounded Rectangle 1033"/>
          <p:cNvSpPr/>
          <p:nvPr/>
        </p:nvSpPr>
        <p:spPr>
          <a:xfrm>
            <a:off x="425520" y="577800"/>
            <a:ext cx="8381880" cy="5562720"/>
          </a:xfrm>
          <a:prstGeom prst="roundRect">
            <a:avLst>
              <a:gd name="adj" fmla="val 259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ounded Rectangle 1034"/>
          <p:cNvSpPr/>
          <p:nvPr/>
        </p:nvSpPr>
        <p:spPr>
          <a:xfrm>
            <a:off x="380880" y="533520"/>
            <a:ext cx="8382240" cy="5562360"/>
          </a:xfrm>
          <a:prstGeom prst="roundRect">
            <a:avLst>
              <a:gd name="adj" fmla="val 25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AC49AEDB-555E-4DA5-9C90-8A28A2E9B46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1029"/>
          <p:cNvSpPr/>
          <p:nvPr/>
        </p:nvSpPr>
        <p:spPr>
          <a:xfrm>
            <a:off x="211680" y="643104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Futura Lt BT"/>
              </a:rPr>
              <a:t>Roma, 13 maggio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Rectangle 1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031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ounded Rectangle 1033"/>
          <p:cNvSpPr/>
          <p:nvPr/>
        </p:nvSpPr>
        <p:spPr>
          <a:xfrm>
            <a:off x="425520" y="577800"/>
            <a:ext cx="8381880" cy="5562720"/>
          </a:xfrm>
          <a:prstGeom prst="roundRect">
            <a:avLst>
              <a:gd name="adj" fmla="val 259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ounded Rectangle 1034"/>
          <p:cNvSpPr/>
          <p:nvPr/>
        </p:nvSpPr>
        <p:spPr>
          <a:xfrm>
            <a:off x="380880" y="533520"/>
            <a:ext cx="8382240" cy="5562360"/>
          </a:xfrm>
          <a:prstGeom prst="roundRect">
            <a:avLst>
              <a:gd name="adj" fmla="val 25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BC1BCFC1-2A4F-41CE-9F2F-7D2CF386600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hape 12288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2CE98C05-C37E-40BC-9A6F-5A53CD611BD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Rectangle 1228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1229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12291"/>
          <p:cNvSpPr/>
          <p:nvPr/>
        </p:nvSpPr>
        <p:spPr>
          <a:xfrm>
            <a:off x="254160" y="1828800"/>
            <a:ext cx="79754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Futura Hv BT"/>
              </a:rPr>
              <a:t>ActionScript 3.0 e 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Introduzione ai Flex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Rectangle 12293" descr=""/>
          <p:cNvPicPr/>
          <p:nvPr/>
        </p:nvPicPr>
        <p:blipFill>
          <a:blip r:embed="rId2"/>
          <a:stretch/>
        </p:blipFill>
        <p:spPr>
          <a:xfrm>
            <a:off x="5580000" y="6256440"/>
            <a:ext cx="1728720" cy="446040"/>
          </a:xfrm>
          <a:prstGeom prst="rect">
            <a:avLst/>
          </a:prstGeom>
          <a:ln w="0">
            <a:noFill/>
          </a:ln>
        </p:spPr>
      </p:pic>
      <p:pic>
        <p:nvPicPr>
          <p:cNvPr id="511" name="Rectangle 12294" descr=""/>
          <p:cNvPicPr/>
          <p:nvPr/>
        </p:nvPicPr>
        <p:blipFill>
          <a:blip r:embed="rId3"/>
          <a:stretch/>
        </p:blipFill>
        <p:spPr>
          <a:xfrm>
            <a:off x="7596360" y="6237360"/>
            <a:ext cx="129528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hape 1331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CCD696C4-827F-410B-98C8-2BD0EF300DC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Box 13313"/>
          <p:cNvSpPr/>
          <p:nvPr/>
        </p:nvSpPr>
        <p:spPr>
          <a:xfrm>
            <a:off x="685800" y="21337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form in Flex si definisce attraverso il tag &lt;mx:For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vantaggio che deriva dall’utilizzo di questo tag è che appartenendo alla famiglia dei container si può gestire facilmente il suo posizionamento e ridimensionamento all’interno dell’interfaccia dell’applicazi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form container contiene al suo interno un header e vari ite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13314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ActionScript 3.0 e F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lex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hape 1331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1CBBFBC3-D145-402E-AAAA-82C80E3691F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3313"/>
          <p:cNvSpPr/>
          <p:nvPr/>
        </p:nvSpPr>
        <p:spPr>
          <a:xfrm>
            <a:off x="685800" y="2133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tag &lt;mx:FormHeading&gt; serve per definire l’intestazione del fr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vantaggio che deriva dal suo utilizzo è l’allineamento del testo in esso contenuto con i controlli inseriti nel 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3314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ActionScript 3.0 e F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lex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hape 1331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8B3066C3-58B4-4F65-99B2-8ABAE3076AD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13313"/>
          <p:cNvSpPr/>
          <p:nvPr/>
        </p:nvSpPr>
        <p:spPr>
          <a:xfrm>
            <a:off x="685800" y="21337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tag &lt;mx:FormItem&gt; serve definire gli elementi del form attraverso le sue prorpiet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rection="vertical|horizontal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el="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ired="false|tru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3314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ActionScript 3.0 e F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lex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hape 1331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A834371B-EF9E-4BFB-8A87-539A4A5DC6F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13313"/>
          <p:cNvSpPr/>
          <p:nvPr/>
        </p:nvSpPr>
        <p:spPr>
          <a:xfrm>
            <a:off x="685800" y="2133720"/>
            <a:ext cx="754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 validators disponibili in Flex sono diversi ed ognuno ha proprietà differ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reditCardValid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urrencyValid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eValid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mailValid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NumberValid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honeNumberValid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egExpValid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ocialSecurityValid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tringValid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ZipCodeValida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3314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ActionScript 3.0 e F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lex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hape 12288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532FE449-7391-49D6-9026-06FC55AEC63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ctangle 1228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1229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Box 12291"/>
          <p:cNvSpPr/>
          <p:nvPr/>
        </p:nvSpPr>
        <p:spPr>
          <a:xfrm>
            <a:off x="254160" y="1828800"/>
            <a:ext cx="79754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Futura Hv BT"/>
              </a:rPr>
              <a:t>ActionScript 3.0 e 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Rectangle 12293" descr=""/>
          <p:cNvPicPr/>
          <p:nvPr/>
        </p:nvPicPr>
        <p:blipFill>
          <a:blip r:embed="rId2"/>
          <a:stretch/>
        </p:blipFill>
        <p:spPr>
          <a:xfrm>
            <a:off x="5580000" y="6256440"/>
            <a:ext cx="1728720" cy="446040"/>
          </a:xfrm>
          <a:prstGeom prst="rect">
            <a:avLst/>
          </a:prstGeom>
          <a:ln w="0">
            <a:noFill/>
          </a:ln>
        </p:spPr>
      </p:pic>
      <p:pic>
        <p:nvPicPr>
          <p:cNvPr id="529" name="Rectangle 12294" descr=""/>
          <p:cNvPicPr/>
          <p:nvPr/>
        </p:nvPicPr>
        <p:blipFill>
          <a:blip r:embed="rId3"/>
          <a:stretch/>
        </p:blipFill>
        <p:spPr>
          <a:xfrm>
            <a:off x="7596360" y="6237360"/>
            <a:ext cx="129528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hape 1331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68C8BCAC-47E1-43A5-8BEB-06EC59F68C5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Box 13313"/>
          <p:cNvSpPr/>
          <p:nvPr/>
        </p:nvSpPr>
        <p:spPr>
          <a:xfrm>
            <a:off x="685800" y="21337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e espressioni regolari sono un potente strumento attraverso il quale è possibile “esplorare” una stringa o verificare se al suo interno esistono delle corrispondenze con determinati pat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sintassi delle espressioni regolari non è delle più semplici ed immediate, ma fortunatamente esistono varie risorse sul web dalle quali atting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ttp://regexlib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3314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ActionScript 3.0 e F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Regular Ex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hape 1331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BE0730B2-D224-4E9D-8A44-F38316B6A87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13313"/>
          <p:cNvSpPr/>
          <p:nvPr/>
        </p:nvSpPr>
        <p:spPr>
          <a:xfrm>
            <a:off x="685800" y="2133720"/>
            <a:ext cx="754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classe RegExp permette di lavorare in ActionScript 3.0 con i pattern più comuni delle espressioni regol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var pattern1:RegExp = new RegExp("test-\\d", "i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var pattern2:RegExp = /test-\d/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sintassi è abbastanza flessibil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3314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ActionScript 3.0 e F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Regular Ex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hape 1331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lide </a:t>
            </a:r>
            <a:fld id="{D8F01AFD-2D18-458E-8BF4-4230AAC1855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Box 13313"/>
          <p:cNvSpPr/>
          <p:nvPr/>
        </p:nvSpPr>
        <p:spPr>
          <a:xfrm>
            <a:off x="685800" y="213372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dirizzo I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((\d{1,2})|(1\d{2})|(2[0-4]\d)|(25[0-5]))\.){3}((\d{1,2})|(1\d{2})|(2[0-4]\d)|(25[0-5]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dirizzo 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\w+\.)*\w+@(\w+\.)+[A-Za-z]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umero carta di credi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5[1-5]\d{14})|(4\d{12}(\d{3})?)|(3[47]\d{13})|(6011\d{14})|((30[0-5]|36\d|38\d)\d{11}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3314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ActionScript 3.0 e F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Regular Ex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07:21:07Z</dcterms:created>
  <dc:creator>Andrea Trento</dc:creator>
  <dc:description/>
  <dc:language>en-US</dc:language>
  <cp:lastModifiedBy>Valued Acer Customer</cp:lastModifiedBy>
  <dcterms:modified xsi:type="dcterms:W3CDTF">2007-03-15T18:31:12Z</dcterms:modified>
  <cp:revision>272</cp:revision>
  <dc:subject/>
  <dc:title>Presentazione di PowerPoint</dc:title>
</cp:coreProperties>
</file>