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D0220-3089-4515-92AC-95502CB9A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CCD23-6DD2-428E-9C10-12ECC4152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4367D-BC67-414A-BAA7-5CC5D2968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9F306-5615-4305-A7CB-C89C1E8C3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5BCAB-BB98-42C4-BAB2-575F481A9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D5A5E-1C09-42EF-91E9-FE1DE68D2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E1247-7E6F-45EA-8BCE-F9BF8EAE9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4AA19-CC54-4480-969E-136E3D01E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C59B7-71B8-4A74-8B0A-22A3F300B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76B4C-AADC-413B-B9C4-46830671E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5628A-4CB4-4E7C-A7C4-E09CE8085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DE2C1-9EF9-4E8D-81F6-5469A1FD6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5AFA5-0439-4546-A795-BFEF98BB8C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7.png"/><Relationship Id="rId13" Type="http://schemas.openxmlformats.org/officeDocument/2006/relationships/image" Target="../media/image7.png"/><Relationship Id="rId14" Type="http://schemas.openxmlformats.org/officeDocument/2006/relationships/image" Target="../media/image12.png"/><Relationship Id="rId15" Type="http://schemas.openxmlformats.org/officeDocument/2006/relationships/image" Target="../media/image13.png"/><Relationship Id="rId16" Type="http://schemas.openxmlformats.org/officeDocument/2006/relationships/image" Target="../media/image12.png"/><Relationship Id="rId1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765000"/>
            <a:ext cx="7993080" cy="532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39640" y="1655640"/>
            <a:ext cx="1368360" cy="443736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908000" y="2065320"/>
            <a:ext cx="6624720" cy="4027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35560" y="1749600"/>
            <a:ext cx="58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lo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75760" y="2225520"/>
            <a:ext cx="1616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RIAL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Proced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09640" y="2174760"/>
            <a:ext cx="0" cy="344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95160" y="3824280"/>
            <a:ext cx="806760" cy="36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RI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1880" y="1655640"/>
            <a:ext cx="806400" cy="36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RI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96880" y="4467240"/>
            <a:ext cx="423720" cy="23184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"/>
          <p:cNvCxnSpPr>
            <a:stCxn id="49" idx="3"/>
            <a:endCxn id="51" idx="0"/>
          </p:cNvCxnSpPr>
          <p:nvPr/>
        </p:nvCxnSpPr>
        <p:spPr>
          <a:xfrm flipH="1" flipV="1">
            <a:off x="812880" y="3429000"/>
            <a:ext cx="208080" cy="1154520"/>
          </a:xfrm>
          <a:prstGeom prst="bentConnector4">
            <a:avLst>
              <a:gd name="adj1" fmla="val -114038"/>
              <a:gd name="adj2" fmla="val 12005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2" name="" descr="draw-text.png"/>
          <p:cNvPicPr/>
          <p:nvPr/>
        </p:nvPicPr>
        <p:blipFill>
          <a:blip r:embed="rId1"/>
          <a:stretch/>
        </p:blipFill>
        <p:spPr>
          <a:xfrm>
            <a:off x="3263760" y="553896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848040" y="553896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2679840" y="553896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2097000" y="553896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2076480" y="9064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6"/>
          <a:stretch/>
        </p:blipFill>
        <p:spPr>
          <a:xfrm>
            <a:off x="2556000" y="9064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7"/>
          <a:stretch/>
        </p:blipFill>
        <p:spPr>
          <a:xfrm>
            <a:off x="5016600" y="553896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8"/>
          <a:stretch/>
        </p:blipFill>
        <p:spPr>
          <a:xfrm>
            <a:off x="5600880" y="553896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9"/>
          <a:stretch/>
        </p:blipFill>
        <p:spPr>
          <a:xfrm>
            <a:off x="6184800" y="553896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10"/>
          <a:stretch/>
        </p:blipFill>
        <p:spPr>
          <a:xfrm>
            <a:off x="6769080" y="553896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11"/>
          <a:stretch/>
        </p:blipFill>
        <p:spPr>
          <a:xfrm>
            <a:off x="4432320" y="5538960"/>
            <a:ext cx="360360" cy="3603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695160" y="2637000"/>
            <a:ext cx="806760" cy="36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ns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760920" y="1655640"/>
            <a:ext cx="806400" cy="36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55640" y="3429000"/>
            <a:ext cx="114480" cy="1144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95160" y="5178600"/>
            <a:ext cx="806760" cy="36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817720" y="1655640"/>
            <a:ext cx="806400" cy="36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ns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2"/>
          <a:stretch/>
        </p:blipFill>
        <p:spPr>
          <a:xfrm>
            <a:off x="2886120" y="278604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13"/>
          <a:stretch/>
        </p:blipFill>
        <p:spPr>
          <a:xfrm>
            <a:off x="2886120" y="3232080"/>
            <a:ext cx="360360" cy="36036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3246480" y="3321000"/>
            <a:ext cx="5022720" cy="1810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6480" y="2874960"/>
            <a:ext cx="5022720" cy="1810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246480" y="3835440"/>
            <a:ext cx="5022720" cy="1810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4"/>
          <a:stretch/>
        </p:blipFill>
        <p:spPr>
          <a:xfrm>
            <a:off x="7353360" y="553896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15"/>
          <a:stretch/>
        </p:blipFill>
        <p:spPr>
          <a:xfrm>
            <a:off x="7937640" y="553896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16"/>
          <a:stretch/>
        </p:blipFill>
        <p:spPr>
          <a:xfrm>
            <a:off x="2843280" y="3746520"/>
            <a:ext cx="360360" cy="36036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3246480" y="2874960"/>
            <a:ext cx="5022720" cy="1810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33960" y="3321000"/>
            <a:ext cx="1752480" cy="1810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986440" y="3835440"/>
            <a:ext cx="1752480" cy="1810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886120" y="4664160"/>
            <a:ext cx="5411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468920" y="4383000"/>
            <a:ext cx="76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 (sec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468560" y="474984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 (fram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376960" y="2637000"/>
            <a:ext cx="0" cy="2428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998000" y="281304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fix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998360" y="3259080"/>
            <a:ext cx="83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timul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997640" y="377352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espon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917800" y="459252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551400" y="459108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84640" y="459108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818240" y="459108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451480" y="459108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084720" y="459108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18320" y="459108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353360" y="459252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882880" y="5049720"/>
            <a:ext cx="5411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914560" y="497844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381480" y="497844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081320" y="497844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014800" y="497844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948280" y="497844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648480" y="497844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115040" y="497844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50120" y="497844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81520" y="497844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715000" y="497844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415200" y="497844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881760" y="497844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614760" y="497844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314960" y="497844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248440" y="497844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181560" y="497844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147840" y="497844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848040" y="497844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548240" y="497844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481720" y="497844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8T15:40:40Z</dcterms:created>
  <dc:creator>Jon Peirce</dc:creator>
  <dc:description/>
  <dc:language>en-US</dc:language>
  <cp:lastModifiedBy>Jon Peirce</cp:lastModifiedBy>
  <dcterms:modified xsi:type="dcterms:W3CDTF">2008-09-28T16:27:18Z</dcterms:modified>
  <cp:revision>4</cp:revision>
  <dc:subject/>
  <dc:title>Slide 1</dc:title>
</cp:coreProperties>
</file>