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4AE-F6DD-48D4-BFC9-633AC890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E4F-1866-4150-A83B-F1F2C819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47EE-50C6-432B-8074-A8A72D07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E7A-0B79-41C0-9694-C197B76C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EE4-34A9-4388-BCF3-F4B570B8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D95-759F-4096-85E1-37F66BCB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DD0-1FA8-4002-B596-5BBC07E2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53A-6074-40DD-8FFD-431CB38D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842B-B764-4303-A18A-7A5316C3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881-06F1-4AE5-BD91-892256A7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DBD-27A1-4F73-9451-9440A59A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F0E-A648-4004-AE7B-678D353C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F570-C6D5-417E-AA60-8B9E1E022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765000"/>
            <a:ext cx="7993080" cy="532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655640"/>
            <a:ext cx="1368360" cy="4437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2065320"/>
            <a:ext cx="6624720" cy="402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5560" y="17496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760" y="222552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9640" y="2174760"/>
            <a:ext cx="0" cy="344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5160" y="382428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188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6880" y="4467240"/>
            <a:ext cx="423720" cy="2318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9" idx="3"/>
            <a:endCxn id="51" idx="0"/>
          </p:cNvCxnSpPr>
          <p:nvPr/>
        </p:nvCxnSpPr>
        <p:spPr>
          <a:xfrm flipH="1" flipV="1">
            <a:off x="812880" y="3429000"/>
            <a:ext cx="208080" cy="1154520"/>
          </a:xfrm>
          <a:prstGeom prst="bentConnector4">
            <a:avLst>
              <a:gd name="adj1" fmla="val -114038"/>
              <a:gd name="adj2" fmla="val 1200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2" name="" descr="draw-text.png"/>
          <p:cNvPicPr/>
          <p:nvPr/>
        </p:nvPicPr>
        <p:blipFill>
          <a:blip r:embed="rId1"/>
          <a:stretch/>
        </p:blipFill>
        <p:spPr>
          <a:xfrm>
            <a:off x="32637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480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6798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0970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076480" y="906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556000" y="906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0166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6008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1848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690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4432320" y="55389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5160" y="26370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609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429000"/>
            <a:ext cx="114480" cy="1144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5160" y="51786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77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2886120" y="2786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2886120" y="3232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6480" y="332100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6480" y="383544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>
            <a:off x="73533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76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2843280" y="37465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33960" y="332100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86440" y="383544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6120" y="466416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8920" y="4383000"/>
            <a:ext cx="7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se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68560" y="474984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fr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76960" y="2637000"/>
            <a:ext cx="0" cy="24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98000" y="281304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x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98360" y="32590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97640" y="377352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780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140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846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182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5148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83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5336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82880" y="504972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4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81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813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48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82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8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15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01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15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152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81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14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149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84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81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78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8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482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17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5:40:40Z</dcterms:created>
  <dc:creator>Jon Peirce</dc:creator>
  <dc:description/>
  <dc:language>en-US</dc:language>
  <cp:lastModifiedBy>Jon Peirce</cp:lastModifiedBy>
  <dcterms:modified xsi:type="dcterms:W3CDTF">2008-09-28T16:27:18Z</dcterms:modified>
  <cp:revision>4</cp:revision>
  <dc:subject/>
  <dc:title>Slide 1</dc:title>
</cp:coreProperties>
</file>